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5CC8-3697-4F2E-9F76-D51F94179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#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костыль, языки семей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е умеют делать функц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три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920" y="38260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784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920" y="3826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0680" y="3826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080" y="3826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0492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784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04920" y="38260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4920" y="38260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784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190680" y="16765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76080" y="167652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04920" y="3826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190680" y="3826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76080" y="3826080"/>
            <a:ext cx="274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92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7840" y="382608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676520"/>
            <a:ext cx="416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920" y="3826080"/>
            <a:ext cx="8534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883640" y="645336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</a:t>
            </a:r>
            <a:fld id="{B279318E-9E8B-4AC0-B1BF-306B2F490B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ke.Yasnev@studentconsultant.org" TargetMode="External"/><Relationship Id="rId3" Type="http://schemas.openxmlformats.org/officeDocument/2006/relationships/hyperlink" Target="mailto:L_Sergey@rambler.ru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ke.Yasnev@studentconsultant.org" TargetMode="External"/><Relationship Id="rId3" Type="http://schemas.openxmlformats.org/officeDocument/2006/relationships/hyperlink" Target="mailto:msdnaa@mail.r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Введение в 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C#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b300"/>
                </a:solidFill>
                <a:latin typeface="Arial"/>
              </a:rPr>
              <a:t>Семинар 1</a:t>
            </a:r>
            <a:endParaRPr b="1" lang="en-US" sz="36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933720"/>
            <a:ext cx="8820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Михаил Яснев</a:t>
            </a:r>
            <a:br>
              <a:rPr sz="3600"/>
            </a:br>
            <a:r>
              <a:rPr b="0" lang="en-US" sz="3600" spc="-1" strike="noStrike" u="sng">
                <a:solidFill>
                  <a:srgbClr val="ffb300"/>
                </a:solidFill>
                <a:uFillTx/>
                <a:latin typeface="Arial"/>
                <a:hlinkClick r:id="rId2"/>
              </a:rPr>
              <a:t>Mike.Yasnev@studentconsultant.or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ергей Леськ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 u="sng">
                <a:solidFill>
                  <a:srgbClr val="ffb300"/>
                </a:solidFill>
                <a:uFillTx/>
                <a:latin typeface="Arial"/>
                <a:hlinkClick r:id="rId3"/>
              </a:rPr>
              <a:t>L_Sergey@rambler.r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Простые типы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, double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l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Метод 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main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тический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имает массив аргументов командой строки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Оператор цикла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 for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(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ициализац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;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а условия выход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новление счетчик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.операторы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Массивы в 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C#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[] A = new Type[4];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ng[] args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ойство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ngth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мерность –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k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ращение к элементу массива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Задача №1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ечатать все аргументы командой строки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*сформировать массив строк из нечетных аргументов командой строки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Наследов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74920" y="1849680"/>
            <a:ext cx="237672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фо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8000000">
            <a:off x="2309400" y="3243240"/>
            <a:ext cx="2221200" cy="433440"/>
          </a:xfrm>
          <a:prstGeom prst="rightArrow">
            <a:avLst>
              <a:gd name="adj1" fmla="val 50000"/>
              <a:gd name="adj2" fmla="val 128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4400000">
            <a:off x="4398840" y="3169800"/>
            <a:ext cx="2220840" cy="433440"/>
          </a:xfrm>
          <a:prstGeom prst="rightArrow">
            <a:avLst>
              <a:gd name="adj1" fmla="val 50000"/>
              <a:gd name="adj2" fmla="val 1280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421520"/>
            <a:ext cx="237636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ов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32360" y="4349520"/>
            <a:ext cx="324000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ционар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Наследование (зоопарк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252800"/>
            <a:ext cx="237672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8000000">
            <a:off x="1806840" y="2593440"/>
            <a:ext cx="2220840" cy="433440"/>
          </a:xfrm>
          <a:prstGeom prst="rightArrow">
            <a:avLst>
              <a:gd name="adj1" fmla="val 50000"/>
              <a:gd name="adj2" fmla="val 1280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4400000">
            <a:off x="4254120" y="2522520"/>
            <a:ext cx="2221200" cy="433440"/>
          </a:xfrm>
          <a:prstGeom prst="rightArrow">
            <a:avLst>
              <a:gd name="adj1" fmla="val 50000"/>
              <a:gd name="adj2" fmla="val 128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3773160"/>
            <a:ext cx="237636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3700800"/>
            <a:ext cx="324000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зья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8000000">
            <a:off x="3714480" y="4790520"/>
            <a:ext cx="1716120" cy="433440"/>
          </a:xfrm>
          <a:prstGeom prst="rightArrow">
            <a:avLst>
              <a:gd name="adj1" fmla="val 50000"/>
              <a:gd name="adj2" fmla="val 989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4400000">
            <a:off x="6405480" y="4779360"/>
            <a:ext cx="1655640" cy="433440"/>
          </a:xfrm>
          <a:prstGeom prst="rightArrow">
            <a:avLst>
              <a:gd name="adj1" fmla="val 50000"/>
              <a:gd name="adj2" fmla="val 954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7280" y="5717880"/>
            <a:ext cx="237636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бу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5778720"/>
            <a:ext cx="3240000" cy="64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тыш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Операторы 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4130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 = a[i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(o is Clas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/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работать с элемент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Оператор 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14130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o = a[i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A objA = o as ClassA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(objA != nul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/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ем с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Пол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4130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ы для хранения данны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ublic class MyClas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ublic string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rotected MyClassB 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1484280"/>
            <a:ext cx="8713800" cy="1513080"/>
          </a:xfrm>
          <a:prstGeom prst="rect">
            <a:avLst/>
          </a:prstGeom>
          <a:solidFill>
            <a:srgbClr val="4d4d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План курса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300"/>
                </a:solidFill>
                <a:latin typeface="Arial"/>
              </a:rPr>
              <a:t>Часть 1</a:t>
            </a:r>
            <a:r>
              <a:rPr b="0" lang="en-US" sz="2000" spc="-1" strike="noStrike">
                <a:solidFill>
                  <a:srgbClr val="ffb3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ffb300"/>
                </a:solidFill>
                <a:latin typeface="Arial"/>
              </a:rPr>
              <a:t>Введение</a:t>
            </a:r>
            <a:endParaRPr b="0" lang="en-US" sz="2000" spc="-1" strike="noStrike">
              <a:solidFill>
                <a:srgbClr val="ffb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тформ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зор основных средст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тейшие т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300"/>
                </a:solidFill>
                <a:latin typeface="Arial"/>
              </a:rPr>
              <a:t>Часть </a:t>
            </a:r>
            <a:r>
              <a:rPr b="0" lang="en-US" sz="2000" spc="-1" strike="noStrike">
                <a:solidFill>
                  <a:srgbClr val="ffb300"/>
                </a:solidFill>
                <a:latin typeface="Arial"/>
              </a:rPr>
              <a:t>2: Windows Forms 2.0</a:t>
            </a:r>
            <a:endParaRPr b="0" lang="en-US" sz="2000" spc="-1" strike="noStrike">
              <a:solidFill>
                <a:srgbClr val="ffb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простого приложения под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текту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NET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ложений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300"/>
                </a:solidFill>
                <a:latin typeface="Arial"/>
              </a:rPr>
              <a:t>Часть</a:t>
            </a:r>
            <a:r>
              <a:rPr b="0" lang="en-US" sz="2000" spc="-1" strike="noStrike">
                <a:solidFill>
                  <a:srgbClr val="ffb300"/>
                </a:solidFill>
                <a:latin typeface="Arial"/>
              </a:rPr>
              <a:t> 3: </a:t>
            </a:r>
            <a:r>
              <a:rPr b="0" lang="ru-RU" sz="2000" spc="-1" strike="noStrike">
                <a:solidFill>
                  <a:srgbClr val="ffb300"/>
                </a:solidFill>
                <a:latin typeface="Arial"/>
              </a:rPr>
              <a:t>Делегаты и события</a:t>
            </a:r>
            <a:endParaRPr b="0" lang="en-US" sz="2000" spc="-1" strike="noStrike">
              <a:solidFill>
                <a:srgbClr val="ffb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мотр фотографий в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ndows 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300"/>
                </a:solidFill>
                <a:latin typeface="Arial"/>
              </a:rPr>
              <a:t>Часть</a:t>
            </a:r>
            <a:r>
              <a:rPr b="0" lang="en-US" sz="2000" spc="-1" strike="noStrike">
                <a:solidFill>
                  <a:srgbClr val="ffb300"/>
                </a:solidFill>
                <a:latin typeface="Arial"/>
              </a:rPr>
              <a:t> 4: </a:t>
            </a:r>
            <a:r>
              <a:rPr b="0" lang="ru-RU" sz="2000" spc="-1" strike="noStrike">
                <a:solidFill>
                  <a:srgbClr val="ffb300"/>
                </a:solidFill>
                <a:latin typeface="Arial"/>
              </a:rPr>
              <a:t>Классы </a:t>
            </a:r>
            <a:r>
              <a:rPr b="0" lang="en-US" sz="2000" spc="-1" strike="noStrike">
                <a:solidFill>
                  <a:srgbClr val="ffb300"/>
                </a:solidFill>
                <a:latin typeface="Arial"/>
              </a:rPr>
              <a:t>.NET</a:t>
            </a:r>
            <a:endParaRPr b="0" lang="en-US" sz="2000" spc="-1" strike="noStrike">
              <a:solidFill>
                <a:srgbClr val="ffb3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й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диро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Метод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4130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назначены для выполнения действий над данн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class MyCl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otected string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string GetName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return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Свойств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4130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капсуляция пол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class MyCl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rivate string nam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ublic string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et { return name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{ name = value; 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Задача №2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ечатать количество разных элементов командой строки с использование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shTable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Вопросы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14130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лед. семинар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го март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10:0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b300"/>
                </a:solidFill>
                <a:uFillTx/>
                <a:latin typeface="Arial"/>
                <a:hlinkClick r:id="rId2"/>
              </a:rPr>
              <a:t>Mike.Yasnev@studentconsultant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b300"/>
                </a:solidFill>
                <a:uFillTx/>
                <a:latin typeface="Arial"/>
                <a:hlinkClick r:id="rId3"/>
              </a:rPr>
              <a:t>msdnaa@mail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mgapi.gotdotnet.r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Рекомендуемые книги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7176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д-во «Русская редакция»</a:t>
            </a:r>
            <a:endParaRPr b="0" lang="en-US" sz="2800" spc="-1" strike="noStrike">
              <a:solidFill>
                <a:srgbClr val="ffb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300"/>
                </a:solidFill>
                <a:latin typeface="Arial"/>
              </a:rPr>
              <a:t>Дж. Рихтер. Программирование на платформе </a:t>
            </a:r>
            <a:r>
              <a:rPr b="0" lang="en-US" sz="2400" spc="-1" strike="noStrike">
                <a:solidFill>
                  <a:srgbClr val="ffb300"/>
                </a:solidFill>
                <a:latin typeface="Arial"/>
              </a:rPr>
              <a:t>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ж. Просиз. Программирование для платформ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ьманахи (1-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урнал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DN Magazine 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. Платт. Знакомство с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.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b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 Петзольд. Программирование для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soft Windows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#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Платформа 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.NET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534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ложение в виде набора сборок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жество языков программирования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IT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иляция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матическая сборка мусора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584000" y="2131920"/>
            <a:ext cx="6178680" cy="3885480"/>
            <a:chOff x="1584000" y="2131920"/>
            <a:chExt cx="6178680" cy="3885480"/>
          </a:xfrm>
        </p:grpSpPr>
        <p:sp>
          <p:nvSpPr>
            <p:cNvPr id="96" name=""/>
            <p:cNvSpPr/>
            <p:nvPr/>
          </p:nvSpPr>
          <p:spPr>
            <a:xfrm>
              <a:off x="1881000" y="2589120"/>
              <a:ext cx="1712880" cy="800280"/>
            </a:xfrm>
            <a:custGeom>
              <a:avLst/>
              <a:gdLst/>
              <a:ahLst/>
              <a:rect l="l" t="t" r="r" b="b"/>
              <a:pathLst>
                <a:path w="2158" h="1007">
                  <a:moveTo>
                    <a:pt x="0" y="505"/>
                  </a:moveTo>
                  <a:lnTo>
                    <a:pt x="4" y="462"/>
                  </a:lnTo>
                  <a:lnTo>
                    <a:pt x="15" y="422"/>
                  </a:lnTo>
                  <a:lnTo>
                    <a:pt x="33" y="380"/>
                  </a:lnTo>
                  <a:lnTo>
                    <a:pt x="60" y="341"/>
                  </a:lnTo>
                  <a:lnTo>
                    <a:pt x="90" y="301"/>
                  </a:lnTo>
                  <a:lnTo>
                    <a:pt x="131" y="265"/>
                  </a:lnTo>
                  <a:lnTo>
                    <a:pt x="177" y="228"/>
                  </a:lnTo>
                  <a:lnTo>
                    <a:pt x="228" y="196"/>
                  </a:lnTo>
                  <a:lnTo>
                    <a:pt x="286" y="163"/>
                  </a:lnTo>
                  <a:lnTo>
                    <a:pt x="349" y="134"/>
                  </a:lnTo>
                  <a:lnTo>
                    <a:pt x="416" y="107"/>
                  </a:lnTo>
                  <a:lnTo>
                    <a:pt x="489" y="82"/>
                  </a:lnTo>
                  <a:lnTo>
                    <a:pt x="566" y="61"/>
                  </a:lnTo>
                  <a:lnTo>
                    <a:pt x="647" y="42"/>
                  </a:lnTo>
                  <a:lnTo>
                    <a:pt x="729" y="29"/>
                  </a:lnTo>
                  <a:lnTo>
                    <a:pt x="813" y="15"/>
                  </a:lnTo>
                  <a:lnTo>
                    <a:pt x="902" y="8"/>
                  </a:lnTo>
                  <a:lnTo>
                    <a:pt x="990" y="2"/>
                  </a:lnTo>
                  <a:lnTo>
                    <a:pt x="1080" y="0"/>
                  </a:lnTo>
                  <a:lnTo>
                    <a:pt x="1168" y="2"/>
                  </a:lnTo>
                  <a:lnTo>
                    <a:pt x="1257" y="8"/>
                  </a:lnTo>
                  <a:lnTo>
                    <a:pt x="1345" y="15"/>
                  </a:lnTo>
                  <a:lnTo>
                    <a:pt x="1429" y="29"/>
                  </a:lnTo>
                  <a:lnTo>
                    <a:pt x="1514" y="42"/>
                  </a:lnTo>
                  <a:lnTo>
                    <a:pt x="1592" y="61"/>
                  </a:lnTo>
                  <a:lnTo>
                    <a:pt x="1669" y="82"/>
                  </a:lnTo>
                  <a:lnTo>
                    <a:pt x="1742" y="107"/>
                  </a:lnTo>
                  <a:lnTo>
                    <a:pt x="1811" y="134"/>
                  </a:lnTo>
                  <a:lnTo>
                    <a:pt x="1872" y="163"/>
                  </a:lnTo>
                  <a:lnTo>
                    <a:pt x="1930" y="196"/>
                  </a:lnTo>
                  <a:lnTo>
                    <a:pt x="1984" y="228"/>
                  </a:lnTo>
                  <a:lnTo>
                    <a:pt x="2028" y="265"/>
                  </a:lnTo>
                  <a:lnTo>
                    <a:pt x="2068" y="301"/>
                  </a:lnTo>
                  <a:lnTo>
                    <a:pt x="2101" y="341"/>
                  </a:lnTo>
                  <a:lnTo>
                    <a:pt x="2125" y="380"/>
                  </a:lnTo>
                  <a:lnTo>
                    <a:pt x="2143" y="422"/>
                  </a:lnTo>
                  <a:lnTo>
                    <a:pt x="2154" y="462"/>
                  </a:lnTo>
                  <a:lnTo>
                    <a:pt x="2158" y="505"/>
                  </a:lnTo>
                  <a:lnTo>
                    <a:pt x="2154" y="547"/>
                  </a:lnTo>
                  <a:lnTo>
                    <a:pt x="2143" y="587"/>
                  </a:lnTo>
                  <a:lnTo>
                    <a:pt x="2125" y="627"/>
                  </a:lnTo>
                  <a:lnTo>
                    <a:pt x="2101" y="668"/>
                  </a:lnTo>
                  <a:lnTo>
                    <a:pt x="2068" y="706"/>
                  </a:lnTo>
                  <a:lnTo>
                    <a:pt x="2028" y="744"/>
                  </a:lnTo>
                  <a:lnTo>
                    <a:pt x="1984" y="779"/>
                  </a:lnTo>
                  <a:lnTo>
                    <a:pt x="1930" y="813"/>
                  </a:lnTo>
                  <a:lnTo>
                    <a:pt x="1872" y="846"/>
                  </a:lnTo>
                  <a:lnTo>
                    <a:pt x="1811" y="875"/>
                  </a:lnTo>
                  <a:lnTo>
                    <a:pt x="1742" y="902"/>
                  </a:lnTo>
                  <a:lnTo>
                    <a:pt x="1669" y="927"/>
                  </a:lnTo>
                  <a:lnTo>
                    <a:pt x="1592" y="948"/>
                  </a:lnTo>
                  <a:lnTo>
                    <a:pt x="1514" y="965"/>
                  </a:lnTo>
                  <a:lnTo>
                    <a:pt x="1429" y="980"/>
                  </a:lnTo>
                  <a:lnTo>
                    <a:pt x="1345" y="992"/>
                  </a:lnTo>
                  <a:lnTo>
                    <a:pt x="1257" y="1001"/>
                  </a:lnTo>
                  <a:lnTo>
                    <a:pt x="1168" y="1005"/>
                  </a:lnTo>
                  <a:lnTo>
                    <a:pt x="1080" y="1007"/>
                  </a:lnTo>
                  <a:lnTo>
                    <a:pt x="990" y="1005"/>
                  </a:lnTo>
                  <a:lnTo>
                    <a:pt x="902" y="1001"/>
                  </a:lnTo>
                  <a:lnTo>
                    <a:pt x="813" y="992"/>
                  </a:lnTo>
                  <a:lnTo>
                    <a:pt x="729" y="980"/>
                  </a:lnTo>
                  <a:lnTo>
                    <a:pt x="647" y="965"/>
                  </a:lnTo>
                  <a:lnTo>
                    <a:pt x="566" y="948"/>
                  </a:lnTo>
                  <a:lnTo>
                    <a:pt x="489" y="927"/>
                  </a:lnTo>
                  <a:lnTo>
                    <a:pt x="416" y="902"/>
                  </a:lnTo>
                  <a:lnTo>
                    <a:pt x="349" y="875"/>
                  </a:lnTo>
                  <a:lnTo>
                    <a:pt x="286" y="846"/>
                  </a:lnTo>
                  <a:lnTo>
                    <a:pt x="228" y="813"/>
                  </a:lnTo>
                  <a:lnTo>
                    <a:pt x="177" y="779"/>
                  </a:lnTo>
                  <a:lnTo>
                    <a:pt x="131" y="744"/>
                  </a:lnTo>
                  <a:lnTo>
                    <a:pt x="90" y="706"/>
                  </a:lnTo>
                  <a:lnTo>
                    <a:pt x="60" y="668"/>
                  </a:lnTo>
                  <a:lnTo>
                    <a:pt x="33" y="627"/>
                  </a:lnTo>
                  <a:lnTo>
                    <a:pt x="15" y="587"/>
                  </a:lnTo>
                  <a:lnTo>
                    <a:pt x="4" y="547"/>
                  </a:lnTo>
                  <a:lnTo>
                    <a:pt x="0" y="50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19760" y="2800440"/>
              <a:ext cx="1033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IL AS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0960" y="3503520"/>
              <a:ext cx="1712880" cy="798480"/>
            </a:xfrm>
            <a:custGeom>
              <a:avLst/>
              <a:gdLst/>
              <a:ahLst/>
              <a:rect l="l" t="t" r="r" b="b"/>
              <a:pathLst>
                <a:path w="2158" h="1007">
                  <a:moveTo>
                    <a:pt x="0" y="505"/>
                  </a:moveTo>
                  <a:lnTo>
                    <a:pt x="1" y="463"/>
                  </a:lnTo>
                  <a:lnTo>
                    <a:pt x="13" y="422"/>
                  </a:lnTo>
                  <a:lnTo>
                    <a:pt x="32" y="380"/>
                  </a:lnTo>
                  <a:lnTo>
                    <a:pt x="57" y="342"/>
                  </a:lnTo>
                  <a:lnTo>
                    <a:pt x="90" y="301"/>
                  </a:lnTo>
                  <a:lnTo>
                    <a:pt x="128" y="265"/>
                  </a:lnTo>
                  <a:lnTo>
                    <a:pt x="174" y="228"/>
                  </a:lnTo>
                  <a:lnTo>
                    <a:pt x="226" y="196"/>
                  </a:lnTo>
                  <a:lnTo>
                    <a:pt x="283" y="163"/>
                  </a:lnTo>
                  <a:lnTo>
                    <a:pt x="347" y="134"/>
                  </a:lnTo>
                  <a:lnTo>
                    <a:pt x="416" y="108"/>
                  </a:lnTo>
                  <a:lnTo>
                    <a:pt x="487" y="83"/>
                  </a:lnTo>
                  <a:lnTo>
                    <a:pt x="564" y="62"/>
                  </a:lnTo>
                  <a:lnTo>
                    <a:pt x="644" y="42"/>
                  </a:lnTo>
                  <a:lnTo>
                    <a:pt x="727" y="29"/>
                  </a:lnTo>
                  <a:lnTo>
                    <a:pt x="813" y="15"/>
                  </a:lnTo>
                  <a:lnTo>
                    <a:pt x="901" y="8"/>
                  </a:lnTo>
                  <a:lnTo>
                    <a:pt x="989" y="2"/>
                  </a:lnTo>
                  <a:lnTo>
                    <a:pt x="1078" y="0"/>
                  </a:lnTo>
                  <a:lnTo>
                    <a:pt x="1168" y="2"/>
                  </a:lnTo>
                  <a:lnTo>
                    <a:pt x="1256" y="8"/>
                  </a:lnTo>
                  <a:lnTo>
                    <a:pt x="1342" y="15"/>
                  </a:lnTo>
                  <a:lnTo>
                    <a:pt x="1429" y="29"/>
                  </a:lnTo>
                  <a:lnTo>
                    <a:pt x="1511" y="42"/>
                  </a:lnTo>
                  <a:lnTo>
                    <a:pt x="1592" y="62"/>
                  </a:lnTo>
                  <a:lnTo>
                    <a:pt x="1668" y="83"/>
                  </a:lnTo>
                  <a:lnTo>
                    <a:pt x="1741" y="108"/>
                  </a:lnTo>
                  <a:lnTo>
                    <a:pt x="1808" y="134"/>
                  </a:lnTo>
                  <a:lnTo>
                    <a:pt x="1872" y="163"/>
                  </a:lnTo>
                  <a:lnTo>
                    <a:pt x="1929" y="196"/>
                  </a:lnTo>
                  <a:lnTo>
                    <a:pt x="1981" y="228"/>
                  </a:lnTo>
                  <a:lnTo>
                    <a:pt x="2027" y="265"/>
                  </a:lnTo>
                  <a:lnTo>
                    <a:pt x="2065" y="301"/>
                  </a:lnTo>
                  <a:lnTo>
                    <a:pt x="2098" y="342"/>
                  </a:lnTo>
                  <a:lnTo>
                    <a:pt x="2123" y="380"/>
                  </a:lnTo>
                  <a:lnTo>
                    <a:pt x="2142" y="422"/>
                  </a:lnTo>
                  <a:lnTo>
                    <a:pt x="2154" y="463"/>
                  </a:lnTo>
                  <a:lnTo>
                    <a:pt x="2158" y="505"/>
                  </a:lnTo>
                  <a:lnTo>
                    <a:pt x="2154" y="547"/>
                  </a:lnTo>
                  <a:lnTo>
                    <a:pt x="2142" y="587"/>
                  </a:lnTo>
                  <a:lnTo>
                    <a:pt x="2123" y="628"/>
                  </a:lnTo>
                  <a:lnTo>
                    <a:pt x="2098" y="668"/>
                  </a:lnTo>
                  <a:lnTo>
                    <a:pt x="2065" y="706"/>
                  </a:lnTo>
                  <a:lnTo>
                    <a:pt x="2027" y="745"/>
                  </a:lnTo>
                  <a:lnTo>
                    <a:pt x="1981" y="779"/>
                  </a:lnTo>
                  <a:lnTo>
                    <a:pt x="1929" y="814"/>
                  </a:lnTo>
                  <a:lnTo>
                    <a:pt x="1872" y="846"/>
                  </a:lnTo>
                  <a:lnTo>
                    <a:pt x="1808" y="875"/>
                  </a:lnTo>
                  <a:lnTo>
                    <a:pt x="1741" y="902"/>
                  </a:lnTo>
                  <a:lnTo>
                    <a:pt x="1668" y="927"/>
                  </a:lnTo>
                  <a:lnTo>
                    <a:pt x="1592" y="948"/>
                  </a:lnTo>
                  <a:lnTo>
                    <a:pt x="1511" y="965"/>
                  </a:lnTo>
                  <a:lnTo>
                    <a:pt x="1429" y="981"/>
                  </a:lnTo>
                  <a:lnTo>
                    <a:pt x="1342" y="992"/>
                  </a:lnTo>
                  <a:lnTo>
                    <a:pt x="1256" y="1002"/>
                  </a:lnTo>
                  <a:lnTo>
                    <a:pt x="1168" y="1005"/>
                  </a:lnTo>
                  <a:lnTo>
                    <a:pt x="1078" y="1007"/>
                  </a:lnTo>
                  <a:lnTo>
                    <a:pt x="989" y="1005"/>
                  </a:lnTo>
                  <a:lnTo>
                    <a:pt x="901" y="1002"/>
                  </a:lnTo>
                  <a:lnTo>
                    <a:pt x="813" y="992"/>
                  </a:lnTo>
                  <a:lnTo>
                    <a:pt x="727" y="981"/>
                  </a:lnTo>
                  <a:lnTo>
                    <a:pt x="644" y="965"/>
                  </a:lnTo>
                  <a:lnTo>
                    <a:pt x="564" y="948"/>
                  </a:lnTo>
                  <a:lnTo>
                    <a:pt x="487" y="927"/>
                  </a:lnTo>
                  <a:lnTo>
                    <a:pt x="416" y="902"/>
                  </a:lnTo>
                  <a:lnTo>
                    <a:pt x="347" y="875"/>
                  </a:lnTo>
                  <a:lnTo>
                    <a:pt x="283" y="846"/>
                  </a:lnTo>
                  <a:lnTo>
                    <a:pt x="226" y="814"/>
                  </a:lnTo>
                  <a:lnTo>
                    <a:pt x="174" y="779"/>
                  </a:lnTo>
                  <a:lnTo>
                    <a:pt x="128" y="745"/>
                  </a:lnTo>
                  <a:lnTo>
                    <a:pt x="90" y="706"/>
                  </a:lnTo>
                  <a:lnTo>
                    <a:pt x="57" y="668"/>
                  </a:lnTo>
                  <a:lnTo>
                    <a:pt x="32" y="628"/>
                  </a:lnTo>
                  <a:lnTo>
                    <a:pt x="13" y="587"/>
                  </a:lnTo>
                  <a:lnTo>
                    <a:pt x="1" y="547"/>
                  </a:lnTo>
                  <a:lnTo>
                    <a:pt x="0" y="50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0160" y="371304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MC+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63960" y="4873680"/>
              <a:ext cx="1712880" cy="799920"/>
            </a:xfrm>
            <a:custGeom>
              <a:avLst/>
              <a:gdLst/>
              <a:ahLst/>
              <a:rect l="l" t="t" r="r" b="b"/>
              <a:pathLst>
                <a:path w="2158" h="1007">
                  <a:moveTo>
                    <a:pt x="0" y="504"/>
                  </a:moveTo>
                  <a:lnTo>
                    <a:pt x="4" y="462"/>
                  </a:lnTo>
                  <a:lnTo>
                    <a:pt x="16" y="422"/>
                  </a:lnTo>
                  <a:lnTo>
                    <a:pt x="33" y="380"/>
                  </a:lnTo>
                  <a:lnTo>
                    <a:pt x="60" y="341"/>
                  </a:lnTo>
                  <a:lnTo>
                    <a:pt x="93" y="301"/>
                  </a:lnTo>
                  <a:lnTo>
                    <a:pt x="131" y="265"/>
                  </a:lnTo>
                  <a:lnTo>
                    <a:pt x="177" y="228"/>
                  </a:lnTo>
                  <a:lnTo>
                    <a:pt x="229" y="196"/>
                  </a:lnTo>
                  <a:lnTo>
                    <a:pt x="286" y="163"/>
                  </a:lnTo>
                  <a:lnTo>
                    <a:pt x="350" y="134"/>
                  </a:lnTo>
                  <a:lnTo>
                    <a:pt x="417" y="107"/>
                  </a:lnTo>
                  <a:lnTo>
                    <a:pt x="490" y="82"/>
                  </a:lnTo>
                  <a:lnTo>
                    <a:pt x="566" y="61"/>
                  </a:lnTo>
                  <a:lnTo>
                    <a:pt x="647" y="42"/>
                  </a:lnTo>
                  <a:lnTo>
                    <a:pt x="729" y="29"/>
                  </a:lnTo>
                  <a:lnTo>
                    <a:pt x="816" y="15"/>
                  </a:lnTo>
                  <a:lnTo>
                    <a:pt x="902" y="8"/>
                  </a:lnTo>
                  <a:lnTo>
                    <a:pt x="990" y="2"/>
                  </a:lnTo>
                  <a:lnTo>
                    <a:pt x="1080" y="0"/>
                  </a:lnTo>
                  <a:lnTo>
                    <a:pt x="1169" y="2"/>
                  </a:lnTo>
                  <a:lnTo>
                    <a:pt x="1257" y="8"/>
                  </a:lnTo>
                  <a:lnTo>
                    <a:pt x="1345" y="15"/>
                  </a:lnTo>
                  <a:lnTo>
                    <a:pt x="1430" y="29"/>
                  </a:lnTo>
                  <a:lnTo>
                    <a:pt x="1514" y="42"/>
                  </a:lnTo>
                  <a:lnTo>
                    <a:pt x="1593" y="61"/>
                  </a:lnTo>
                  <a:lnTo>
                    <a:pt x="1669" y="82"/>
                  </a:lnTo>
                  <a:lnTo>
                    <a:pt x="1742" y="107"/>
                  </a:lnTo>
                  <a:lnTo>
                    <a:pt x="1811" y="134"/>
                  </a:lnTo>
                  <a:lnTo>
                    <a:pt x="1875" y="163"/>
                  </a:lnTo>
                  <a:lnTo>
                    <a:pt x="1932" y="196"/>
                  </a:lnTo>
                  <a:lnTo>
                    <a:pt x="1984" y="228"/>
                  </a:lnTo>
                  <a:lnTo>
                    <a:pt x="2028" y="265"/>
                  </a:lnTo>
                  <a:lnTo>
                    <a:pt x="2068" y="301"/>
                  </a:lnTo>
                  <a:lnTo>
                    <a:pt x="2101" y="341"/>
                  </a:lnTo>
                  <a:lnTo>
                    <a:pt x="2126" y="380"/>
                  </a:lnTo>
                  <a:lnTo>
                    <a:pt x="2145" y="422"/>
                  </a:lnTo>
                  <a:lnTo>
                    <a:pt x="2155" y="462"/>
                  </a:lnTo>
                  <a:lnTo>
                    <a:pt x="2158" y="504"/>
                  </a:lnTo>
                  <a:lnTo>
                    <a:pt x="2155" y="547"/>
                  </a:lnTo>
                  <a:lnTo>
                    <a:pt x="2145" y="587"/>
                  </a:lnTo>
                  <a:lnTo>
                    <a:pt x="2126" y="627"/>
                  </a:lnTo>
                  <a:lnTo>
                    <a:pt x="2101" y="668"/>
                  </a:lnTo>
                  <a:lnTo>
                    <a:pt x="2068" y="706"/>
                  </a:lnTo>
                  <a:lnTo>
                    <a:pt x="2028" y="744"/>
                  </a:lnTo>
                  <a:lnTo>
                    <a:pt x="1984" y="779"/>
                  </a:lnTo>
                  <a:lnTo>
                    <a:pt x="1932" y="813"/>
                  </a:lnTo>
                  <a:lnTo>
                    <a:pt x="1875" y="846"/>
                  </a:lnTo>
                  <a:lnTo>
                    <a:pt x="1811" y="875"/>
                  </a:lnTo>
                  <a:lnTo>
                    <a:pt x="1742" y="902"/>
                  </a:lnTo>
                  <a:lnTo>
                    <a:pt x="1669" y="927"/>
                  </a:lnTo>
                  <a:lnTo>
                    <a:pt x="1593" y="948"/>
                  </a:lnTo>
                  <a:lnTo>
                    <a:pt x="1514" y="965"/>
                  </a:lnTo>
                  <a:lnTo>
                    <a:pt x="1430" y="980"/>
                  </a:lnTo>
                  <a:lnTo>
                    <a:pt x="1345" y="992"/>
                  </a:lnTo>
                  <a:lnTo>
                    <a:pt x="1257" y="1001"/>
                  </a:lnTo>
                  <a:lnTo>
                    <a:pt x="1169" y="1007"/>
                  </a:lnTo>
                  <a:lnTo>
                    <a:pt x="1080" y="1007"/>
                  </a:lnTo>
                  <a:lnTo>
                    <a:pt x="990" y="1007"/>
                  </a:lnTo>
                  <a:lnTo>
                    <a:pt x="902" y="1001"/>
                  </a:lnTo>
                  <a:lnTo>
                    <a:pt x="816" y="992"/>
                  </a:lnTo>
                  <a:lnTo>
                    <a:pt x="729" y="980"/>
                  </a:lnTo>
                  <a:lnTo>
                    <a:pt x="647" y="965"/>
                  </a:lnTo>
                  <a:lnTo>
                    <a:pt x="566" y="948"/>
                  </a:lnTo>
                  <a:lnTo>
                    <a:pt x="490" y="927"/>
                  </a:lnTo>
                  <a:lnTo>
                    <a:pt x="417" y="902"/>
                  </a:lnTo>
                  <a:lnTo>
                    <a:pt x="350" y="875"/>
                  </a:lnTo>
                  <a:lnTo>
                    <a:pt x="286" y="846"/>
                  </a:lnTo>
                  <a:lnTo>
                    <a:pt x="229" y="813"/>
                  </a:lnTo>
                  <a:lnTo>
                    <a:pt x="177" y="779"/>
                  </a:lnTo>
                  <a:lnTo>
                    <a:pt x="131" y="744"/>
                  </a:lnTo>
                  <a:lnTo>
                    <a:pt x="93" y="706"/>
                  </a:lnTo>
                  <a:lnTo>
                    <a:pt x="60" y="668"/>
                  </a:lnTo>
                  <a:lnTo>
                    <a:pt x="33" y="627"/>
                  </a:lnTo>
                  <a:lnTo>
                    <a:pt x="16" y="587"/>
                  </a:lnTo>
                  <a:lnTo>
                    <a:pt x="4" y="547"/>
                  </a:lnTo>
                  <a:lnTo>
                    <a:pt x="0" y="504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83160" y="4902120"/>
              <a:ext cx="474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C#/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64560" y="5267160"/>
              <a:ext cx="1116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VB.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25200" y="5788080"/>
              <a:ext cx="58230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638840" y="5746680"/>
              <a:ext cx="123840" cy="81000"/>
            </a:xfrm>
            <a:custGeom>
              <a:avLst/>
              <a:gdLst/>
              <a:ahLst/>
              <a:rect l="l" t="t" r="r" b="b"/>
              <a:pathLst>
                <a:path w="155" h="104">
                  <a:moveTo>
                    <a:pt x="0" y="0"/>
                  </a:moveTo>
                  <a:lnTo>
                    <a:pt x="155" y="52"/>
                  </a:lnTo>
                  <a:lnTo>
                    <a:pt x="0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30720" y="5803920"/>
              <a:ext cx="1465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родуктивность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825200" y="2246400"/>
              <a:ext cx="1800" cy="35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84160" y="2131920"/>
              <a:ext cx="81000" cy="123840"/>
            </a:xfrm>
            <a:custGeom>
              <a:avLst/>
              <a:gdLst/>
              <a:ahLst/>
              <a:rect l="l" t="t" r="r" b="b"/>
              <a:pathLst>
                <a:path w="104" h="156">
                  <a:moveTo>
                    <a:pt x="0" y="156"/>
                  </a:moveTo>
                  <a:lnTo>
                    <a:pt x="52" y="0"/>
                  </a:lnTo>
                  <a:lnTo>
                    <a:pt x="104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1265040" y="4023000"/>
              <a:ext cx="851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троль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3049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Выбираем язы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341360"/>
            <a:ext cx="8534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SIL, C#, MC++, VB.NET, J#, JScrip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777600" y="1795320"/>
            <a:ext cx="7632000" cy="4258440"/>
            <a:chOff x="777600" y="1795320"/>
            <a:chExt cx="7632000" cy="4258440"/>
          </a:xfrm>
        </p:grpSpPr>
        <p:sp>
          <p:nvSpPr>
            <p:cNvPr id="112" name=""/>
            <p:cNvSpPr/>
            <p:nvPr/>
          </p:nvSpPr>
          <p:spPr>
            <a:xfrm>
              <a:off x="777600" y="1795320"/>
              <a:ext cx="7632000" cy="7322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02880" y="1918080"/>
              <a:ext cx="1261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аш код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77600" y="2527920"/>
              <a:ext cx="7632000" cy="16160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28160" y="2858760"/>
              <a:ext cx="4147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Common Language Run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84600" y="3327840"/>
              <a:ext cx="28141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(mscoree/mscorli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7600" y="5172480"/>
              <a:ext cx="7632000" cy="881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97560" y="5368680"/>
              <a:ext cx="1975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Hardwar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600" y="4144320"/>
              <a:ext cx="3815640" cy="1028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23400" y="4413600"/>
              <a:ext cx="13388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Window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93600" y="4144320"/>
              <a:ext cx="3816000" cy="1028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38320" y="4178880"/>
              <a:ext cx="2745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Device-specific 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48560" y="4647960"/>
              <a:ext cx="1279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или H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4000" y="2602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CLR </a:t>
            </a: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и </a:t>
            </a:r>
            <a:r>
              <a:rPr b="1" lang="en-US" sz="4000" spc="-1" strike="noStrike">
                <a:solidFill>
                  <a:srgbClr val="ffb300"/>
                </a:solidFill>
                <a:latin typeface="Arial"/>
              </a:rPr>
              <a:t>Window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Вывод на экран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052280"/>
            <a:ext cx="85341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namespace lab1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class Program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static void Main(string[] args)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b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b3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b300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Console.WriteLine(«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ет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¸ {0}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{1}”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#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, ".NET");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Console.ReadLine();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b300"/>
                </a:solidFill>
                <a:latin typeface="Arial"/>
              </a:rPr>
              <a:t>Пространства имен</a:t>
            </a:r>
            <a:endParaRPr b="1" lang="en-US" sz="4000" spc="-1" strike="noStrike">
              <a:solidFill>
                <a:srgbClr val="ffb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аналогии с именами у людей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ван Петрович Сидоров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ванов слишком много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оров.Петрович.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ван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я.Москва.КраснаяПлощать.Д1.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оров.Петрович.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Иван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rosoft.Win32.Registry</a:t>
            </a: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3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0:45:13Z</dcterms:created>
  <dc:creator>Pat Helland and Don Box</dc:creator>
  <dc:description/>
  <dc:language>en-US</dc:language>
  <cp:lastModifiedBy>Mike</cp:lastModifiedBy>
  <dcterms:modified xsi:type="dcterms:W3CDTF">2005-03-03T17:31:50Z</dcterms:modified>
  <cp:revision>256</cp:revision>
  <dc:subject/>
  <dc:title>Software Diplomacy: Achieving Détente Through XML Web Service Technologies</dc:title>
</cp:coreProperties>
</file>